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E34-490F-412F-968E-06503904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757-DF6B-4EF5-8847-5864E1CF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85E-BEA4-4471-AB48-50BAAADE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C8B-165B-425B-8C7F-033BCA4D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1C9-B04A-4A8A-9910-B86BE5F5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BE9-4BF0-4BC0-A58E-69650E6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117-E9C6-4E81-829F-757C918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268-E632-4E8B-9C11-47EE2B8B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41E-3F83-46AD-B469-AF5FC22B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072-6A48-4CD1-862E-2BAEA61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1F9-39F5-4BFD-982A-EB0EAE4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8D9-EA25-4D6C-9437-9900F1C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58FC-C47D-4744-BDE0-757D8EFFE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6:08:59Z</dcterms:created>
  <dc:creator>Grupo Editorial</dc:creator>
  <dc:description/>
  <dc:language>en-US</dc:language>
  <cp:lastModifiedBy>Grupo Editorial</cp:lastModifiedBy>
  <dcterms:modified xsi:type="dcterms:W3CDTF">2001-09-27T16:10:49Z</dcterms:modified>
  <cp:revision>1</cp:revision>
  <dc:subject/>
  <dc:title>Sin título de diapositiva</dc:title>
</cp:coreProperties>
</file>